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DB5-2DC4-4C2E-B415-09337237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A79-9360-4998-B538-DC22047B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1EE-33A2-4ADF-A3C9-CE717126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F78-0E6E-4771-8C16-AAAD393B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5384-9AF2-4DBC-8C4E-90053FD8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320E-06E0-40A2-81E4-3DC6161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821-119B-4621-A869-C8E20EDF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769F-C81A-4799-B08D-88FEBE1A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F6E-59D3-4775-BB49-0C308B7A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625D-B49A-444C-85E0-F447EA7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0DB9-106A-4D74-996C-0F467315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D0F-9DDC-419A-9CCF-449E0999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040F-07EC-4BFE-B2CE-01744E4E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053-0479-41BC-B52D-4043648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8F7-450B-49C3-8F46-72CD212E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EFF8-59B0-4EA0-89F3-71FC3447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9EB-2E79-40CD-BA6F-8758DEBB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319-80C4-461A-94B7-BBD8283E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FB0-F671-44FA-95A4-93B42146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73F-AA96-487C-A5D6-39783F7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9A9-0687-4335-B795-7701260F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AC2-8080-49B7-8645-A2DDCC46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62E-6277-45AD-8D73-997CCBA2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2DA-6736-45FA-9555-2271122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49A-5F54-4765-B44B-F966E53A3F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DE69-7AB2-42EA-86E3-18C84E5BA5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330066"/>
                </a:solidFill>
                <a:latin typeface="Arial"/>
              </a:rPr>
              <a:t>Различают три уровня диагностики </a:t>
            </a:r>
            <a:br>
              <a:rPr sz="2500"/>
            </a:br>
            <a:r>
              <a:rPr b="0" lang="ru-RU" sz="2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0" i="1" lang="ru-RU" sz="2500" spc="-1" strike="noStrike">
                <a:solidFill>
                  <a:srgbClr val="330066"/>
                </a:solidFill>
                <a:latin typeface="Arial"/>
              </a:rPr>
              <a:t>Л.С. Выготский</a:t>
            </a:r>
            <a:r>
              <a:rPr b="1" i="1" lang="ru-RU" sz="2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3" name="Diagram 17"/>
          <p:cNvGrpSpPr/>
          <p:nvPr/>
        </p:nvGrpSpPr>
        <p:grpSpPr>
          <a:xfrm>
            <a:off x="324000" y="2325240"/>
            <a:ext cx="8640000" cy="3562200"/>
            <a:chOff x="324000" y="2325240"/>
            <a:chExt cx="8640000" cy="3562200"/>
          </a:xfrm>
        </p:grpSpPr>
        <p:sp>
          <p:nvSpPr>
            <p:cNvPr id="224" name="_s7172"/>
            <p:cNvSpPr/>
            <p:nvPr/>
          </p:nvSpPr>
          <p:spPr>
            <a:xfrm flipV="1">
              <a:off x="3204360" y="2324880"/>
              <a:ext cx="2879280" cy="1187280"/>
            </a:xfrm>
            <a:custGeom>
              <a:avLst/>
              <a:gdLst>
                <a:gd name="textAreaLeft" fmla="*/ 1033200 w 2879280"/>
                <a:gd name="textAreaRight" fmla="*/ 1846080 w 2879280"/>
                <a:gd name="textAreaTop" fmla="*/ 425880 h 1187280"/>
                <a:gd name="textAreaBottom" fmla="*/ 761400 h 11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66"/>
                  </a:solidFill>
                  <a:latin typeface="Arial"/>
                </a:rPr>
                <a:t>Симптоматический</a:t>
              </a: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 (устанавливаю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те или и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особенности исследуемого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не указыв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на их причины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место в структуре лич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7173"/>
            <p:cNvSpPr/>
            <p:nvPr/>
          </p:nvSpPr>
          <p:spPr>
            <a:xfrm flipV="1">
              <a:off x="1763640" y="3512520"/>
              <a:ext cx="5759640" cy="1187280"/>
            </a:xfrm>
            <a:custGeom>
              <a:avLst/>
              <a:gdLst>
                <a:gd name="textAreaLeft" fmla="*/ 1266480 w 5759640"/>
                <a:gd name="textAreaRight" fmla="*/ 4493160 w 5759640"/>
                <a:gd name="textAreaTop" fmla="*/ 261000 h 1187280"/>
                <a:gd name="textAreaBottom" fmla="*/ 926280 h 11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0066"/>
                  </a:solidFill>
                  <a:latin typeface="Arial"/>
                </a:rPr>
                <a:t>Этиологический (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определяются причин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обнаруженного явления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7174"/>
            <p:cNvSpPr/>
            <p:nvPr/>
          </p:nvSpPr>
          <p:spPr>
            <a:xfrm flipV="1">
              <a:off x="324000" y="4699080"/>
              <a:ext cx="8640000" cy="1187640"/>
            </a:xfrm>
            <a:custGeom>
              <a:avLst/>
              <a:gdLst>
                <a:gd name="textAreaLeft" fmla="*/ 1499760 w 8640000"/>
                <a:gd name="textAreaRight" fmla="*/ 7140240 w 8640000"/>
                <a:gd name="textAreaTop" fmla="*/ 205920 h 1187640"/>
                <a:gd name="textAreaBottom" fmla="*/ 981720 h 11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0066"/>
                  </a:solidFill>
                  <a:latin typeface="Arial"/>
                </a:rPr>
                <a:t>Типологический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 (определяется мест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и значение полученных данн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в целостной динамическ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картине личности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Г. Вицлак рассматривает </a:t>
            </a: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психическое как диагностически-релевантное в системах отношений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8" name="Diagram 5"/>
          <p:cNvGrpSpPr/>
          <p:nvPr/>
        </p:nvGrpSpPr>
        <p:grpSpPr>
          <a:xfrm>
            <a:off x="1377000" y="1287720"/>
            <a:ext cx="6389280" cy="3082680"/>
            <a:chOff x="1377000" y="1287720"/>
            <a:chExt cx="6389280" cy="3082680"/>
          </a:xfrm>
        </p:grpSpPr>
        <p:sp>
          <p:nvSpPr>
            <p:cNvPr id="229" name="_s8196"/>
            <p:cNvSpPr/>
            <p:nvPr/>
          </p:nvSpPr>
          <p:spPr>
            <a:xfrm>
              <a:off x="3707640" y="1834560"/>
              <a:ext cx="1728360" cy="156600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8197"/>
            <p:cNvSpPr/>
            <p:nvPr/>
          </p:nvSpPr>
          <p:spPr>
            <a:xfrm>
              <a:off x="3707640" y="1287720"/>
              <a:ext cx="17283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Интраиндивидуальных</a:t>
              </a: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(взаимосвяз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психических свойст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личност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8198"/>
            <p:cNvSpPr/>
            <p:nvPr/>
          </p:nvSpPr>
          <p:spPr>
            <a:xfrm>
              <a:off x="4276440" y="2727360"/>
              <a:ext cx="1728720" cy="1566000"/>
            </a:xfrm>
            <a:prstGeom prst="ellipse">
              <a:avLst/>
            </a:prstGeom>
            <a:solidFill>
              <a:srgbClr val="7e9ce8">
                <a:alpha val="50000"/>
              </a:srgbClr>
            </a:solidFill>
            <a:ln w="468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8199"/>
            <p:cNvSpPr/>
            <p:nvPr/>
          </p:nvSpPr>
          <p:spPr>
            <a:xfrm>
              <a:off x="6037560" y="3980160"/>
              <a:ext cx="1728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Интериндивидуаль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вариациях</a:t>
              </a: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(установление различ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между индивид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и другими людь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8200"/>
            <p:cNvSpPr/>
            <p:nvPr/>
          </p:nvSpPr>
          <p:spPr>
            <a:xfrm>
              <a:off x="3138480" y="2727360"/>
              <a:ext cx="1728720" cy="1566000"/>
            </a:xfrm>
            <a:prstGeom prst="ellipse">
              <a:avLst/>
            </a:prstGeom>
            <a:solidFill>
              <a:srgbClr val="d8d8ec">
                <a:alpha val="50000"/>
              </a:srgbClr>
            </a:solidFill>
            <a:ln w="46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8201"/>
            <p:cNvSpPr/>
            <p:nvPr/>
          </p:nvSpPr>
          <p:spPr>
            <a:xfrm>
              <a:off x="1377000" y="3980160"/>
              <a:ext cx="1728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Субъект-объектных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330066"/>
                  </a:solidFill>
                  <a:latin typeface="Arial"/>
                </a:rPr>
                <a:t>субъект-субъектных</a:t>
              </a: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(отношения человека 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окружающей среде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0066"/>
                  </a:solidFill>
                  <a:latin typeface="Arial"/>
                </a:rPr>
                <a:t>требованиям обществ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13"/>
          <p:cNvSpPr/>
          <p:nvPr/>
        </p:nvSpPr>
        <p:spPr>
          <a:xfrm>
            <a:off x="250920" y="5661000"/>
            <a:ext cx="864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0066"/>
                </a:solidFill>
                <a:latin typeface="Arial"/>
              </a:rPr>
              <a:t>Такой подход обусловливает </a:t>
            </a: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комплексность психодиагностического иссле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Organization Chart 5"/>
          <p:cNvGrpSpPr/>
          <p:nvPr/>
        </p:nvGrpSpPr>
        <p:grpSpPr>
          <a:xfrm>
            <a:off x="468360" y="260280"/>
            <a:ext cx="8208720" cy="5515200"/>
            <a:chOff x="468360" y="260280"/>
            <a:chExt cx="8208720" cy="5515200"/>
          </a:xfrm>
        </p:grpSpPr>
        <p:cxnSp>
          <p:nvCxnSpPr>
            <p:cNvPr id="237" name="_s9220"/>
            <p:cNvCxnSpPr>
              <a:stCxn id="238" idx="0"/>
              <a:endCxn id="239" idx="2"/>
            </p:cNvCxnSpPr>
            <p:nvPr/>
          </p:nvCxnSpPr>
          <p:spPr>
            <a:xfrm flipV="1" rot="16200000">
              <a:off x="5616720" y="1421280"/>
              <a:ext cx="1103400" cy="319320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9221"/>
            <p:cNvCxnSpPr>
              <a:stCxn id="241" idx="0"/>
              <a:endCxn id="239" idx="2"/>
            </p:cNvCxnSpPr>
            <p:nvPr/>
          </p:nvCxnSpPr>
          <p:spPr>
            <a:xfrm flipV="1" rot="16200000">
              <a:off x="4552560" y="2485440"/>
              <a:ext cx="1103400" cy="106488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9222"/>
            <p:cNvCxnSpPr>
              <a:stCxn id="243" idx="0"/>
              <a:endCxn id="239" idx="2"/>
            </p:cNvCxnSpPr>
            <p:nvPr/>
          </p:nvCxnSpPr>
          <p:spPr>
            <a:xfrm flipH="1" flipV="1" rot="5400000">
              <a:off x="3489480" y="2486880"/>
              <a:ext cx="1103400" cy="106236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9223"/>
            <p:cNvCxnSpPr>
              <a:stCxn id="245" idx="0"/>
              <a:endCxn id="239" idx="2"/>
            </p:cNvCxnSpPr>
            <p:nvPr/>
          </p:nvCxnSpPr>
          <p:spPr>
            <a:xfrm flipH="1" flipV="1" rot="5400000">
              <a:off x="2424600" y="1421640"/>
              <a:ext cx="1103400" cy="3192840"/>
            </a:xfrm>
            <a:prstGeom prst="bentConnector3">
              <a:avLst>
                <a:gd name="adj1" fmla="val 103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9224"/>
            <p:cNvSpPr/>
            <p:nvPr/>
          </p:nvSpPr>
          <p:spPr>
            <a:xfrm>
              <a:off x="3660480" y="26028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Источни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становл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диагности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9225"/>
            <p:cNvSpPr/>
            <p:nvPr/>
          </p:nvSpPr>
          <p:spPr>
            <a:xfrm>
              <a:off x="46836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Экспериментальн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9226"/>
            <p:cNvSpPr/>
            <p:nvPr/>
          </p:nvSpPr>
          <p:spPr>
            <a:xfrm>
              <a:off x="259632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Дифференциальн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9227"/>
            <p:cNvSpPr/>
            <p:nvPr/>
          </p:nvSpPr>
          <p:spPr>
            <a:xfrm>
              <a:off x="472464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рикладна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0066"/>
                  </a:solidFill>
                  <a:latin typeface="Arial"/>
                </a:rPr>
                <a:t>псих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9228"/>
            <p:cNvSpPr/>
            <p:nvPr/>
          </p:nvSpPr>
          <p:spPr>
            <a:xfrm>
              <a:off x="6852960" y="3569400"/>
              <a:ext cx="1824120" cy="2206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06080"/>
                <a:gd name="textAreaBottom" fmla="*/ 2117160 h 2206080"/>
              </a:gdLst>
              <a:ahLst/>
              <a:rect l="textAreaLeft" t="textAreaTop" r="textAreaRight" b="textAreaBottom"/>
              <a:pathLst>
                <a:path w="21600" h="26122">
                  <a:moveTo>
                    <a:pt x="3600" y="0"/>
                  </a:moveTo>
                  <a:arcTo wR="3600" hR="3600" stAng="16200000" swAng="-5400000"/>
                  <a:lnTo>
                    <a:pt x="0" y="22522"/>
                  </a:lnTo>
                  <a:arcTo wR="3600" hR="3600" stAng="10800000" swAng="-5400000"/>
                  <a:lnTo>
                    <a:pt x="18000" y="261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330066"/>
                  </a:solidFill>
                  <a:latin typeface="Arial"/>
                </a:rPr>
                <a:t>Тест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9608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501"/>
                </a:solidFill>
                <a:latin typeface="Arial"/>
              </a:rPr>
              <a:t>В практике психодиагностики задачи определяются организацией исследования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90501"/>
                </a:solidFill>
                <a:latin typeface="Arial"/>
              </a:rPr>
              <a:t>В ситуации клиен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(предполагается, что полученные данные будут использоваться обратившимся)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задачами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диагностики является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становка диагноз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пределение приемов и методов воздействия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500" spc="-1" strike="noStrike">
                <a:solidFill>
                  <a:srgbClr val="d8d8e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Ответственность за технологию получения и использования данных лежит на психологе, а обратившийся за помощью, ответственен за их исполнение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90501"/>
                </a:solidFill>
                <a:latin typeface="Arial"/>
              </a:rPr>
              <a:t>В ситуации экспертиз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(связана с оценкой, причем о ее присутствии известно и диагносту и испытуемому)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задачами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диагностики явл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огласование целей диагностики и использование ее результа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становка диагноз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пределение приемов и методов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ыделяют два варианта ситуац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а) результаты диагностики используются администрацией учреждения в целях вынесения суждения о соответствии-несоответствии обследуемого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б) результат используется специалистом, находящимся на одном статусном уровне с диагностом.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этом случае целью является комплексное воздейств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Ответственность связана с организацией исследования и использованием его результатов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лежит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990501"/>
                </a:solidFill>
                <a:latin typeface="Arial"/>
              </a:rPr>
              <a:t>в основном на диагнос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6960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66"/>
                </a:solidFill>
                <a:latin typeface="Arial"/>
              </a:rPr>
              <a:t>Задачи психодиагностики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ято считать, что диагностика должна осуществляться в три этап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1) скрининг-диагнос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2) дифференциальная диагнос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3) углубленное психологическое изучение индивида с целью разработки индивидуальной программы развития, коррекции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69608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0066"/>
                </a:solidFill>
                <a:latin typeface="Arial"/>
              </a:rPr>
              <a:t>Объект и субъекты диагностической практики</a:t>
            </a: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:</a:t>
            </a:r>
            <a:br>
              <a:rPr sz="2500"/>
            </a:b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бъект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- это то, на что будет направлено исследование, он более общий по отношению к предмету. Объект может быть моделируемым (например, операции анализа и синтеза в мышлении) или реальным (индивид или группа людей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редмет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всегда формулируется в контексте исследования и является частным по отношению к его объекту. Им могут быть временные и интенсивностные характеристики психических явлений в конкретных условиях, взаимовлияния и взаимосвязи между ними и п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убъекты диагностической практик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1. Диагност (психолог, педагог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 качестве диагноста выступает лицо, имеющее специальное образование, подтвержденное государственным дипломом и представляющее какую-либо частную или государственную организац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2. Заказчи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 качестве заказчика выступает официальное или частное лицо, обратившееся к диагносту за консультацией, ознакомленное с принципами и правилами психологической деятельности и согласное с ни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3. Испытуемы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Лицо, согласившееся добровольно быть объектом психолого-педагогического диагностического исследования в каких-либо интересах является испытуемы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4. Результат иссле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Теоретический, методический или экспериментальный материал, отображающий испытуемого с точки зрения запроса заказчика называется результат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Психологическая диагностика на практике начинается с получения заказа</a:t>
            </a:r>
            <a:endParaRPr b="1" lang="en-US" sz="2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Диагност составляет во взаимосогласованной форме план исследования, договаривается о взаимных обязанностях и права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Согласует с заказчиком использование результатов диагностик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Выбирает адекватную поставленным задачам теоретическую концепцию, методы и методики исследования, способы их обработки и интерпрет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Осуществляется работа с испытуем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Результаты обрабатываются и интерпретируются, согласуются с ранее полученными данными, формулируются согласно интересам заказчи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Отчет по исследованию в форме, согласованной заранее, передается заказчику, который и применяет к испытуемому рекомендации диагноста(психолога, педагога, социального педагог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Этические принципы диагнос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не нанесения ущерба испытуем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компетен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беспристрас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конфиденциа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инцип осведомленного согла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4"/>
          <p:cNvSpPr/>
          <p:nvPr/>
        </p:nvSpPr>
        <p:spPr>
          <a:xfrm>
            <a:off x="1908000" y="333360"/>
            <a:ext cx="5256360" cy="1008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Основные отрасли психо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79280" y="1844640"/>
            <a:ext cx="4032360" cy="2305080"/>
          </a:xfrm>
          <a:custGeom>
            <a:avLst/>
            <a:gdLst>
              <a:gd name="textAreaLeft" fmla="*/ 1008000 w 4032360"/>
              <a:gd name="textAreaRight" fmla="*/ 3024360 w 4032360"/>
              <a:gd name="textAreaTop" fmla="*/ 0 h 2305080"/>
              <a:gd name="textAreaBottom" fmla="*/ 2017080 h 2305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7e9ce8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ая (школьная) диагност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использует разнообразные метод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сты, которые создаются в соответств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сихометрическими требованиям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назначены для измер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пешности освоения учебного материал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2771640" y="4365720"/>
            <a:ext cx="4319640" cy="2087640"/>
          </a:xfrm>
          <a:custGeom>
            <a:avLst/>
            <a:gdLst>
              <a:gd name="textAreaLeft" fmla="*/ 1080000 w 4319640"/>
              <a:gd name="textAreaRight" fmla="*/ 3240000 w 4319640"/>
              <a:gd name="textAreaTop" fmla="*/ 0 h 2087640"/>
              <a:gd name="textAreaBottom" fmla="*/ 1827000 h 208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ая психодиагно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для о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ориентации и при профотб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5148360" y="1773360"/>
            <a:ext cx="3671640" cy="2447640"/>
          </a:xfrm>
          <a:custGeom>
            <a:avLst/>
            <a:gdLst>
              <a:gd name="textAreaLeft" fmla="*/ 918000 w 3671640"/>
              <a:gd name="textAreaRight" fmla="*/ 2754000 w 3671640"/>
              <a:gd name="textAreaTop" fmla="*/ 0 h 2447640"/>
              <a:gd name="textAreaBottom" fmla="*/ 2142000 h 24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иническая психодиагност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а на из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-психолог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ей бо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труктурно-дина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и личност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е к болезни, механиз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логической защиты и т.д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4643280" y="1341360"/>
            <a:ext cx="73080" cy="3024360"/>
          </a:xfrm>
          <a:prstGeom prst="downArrow">
            <a:avLst>
              <a:gd name="adj1" fmla="val 50000"/>
              <a:gd name="adj2" fmla="val 10346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2268360" y="1341360"/>
            <a:ext cx="71640" cy="503280"/>
          </a:xfrm>
          <a:prstGeom prst="downArrow">
            <a:avLst>
              <a:gd name="adj1" fmla="val 50000"/>
              <a:gd name="adj2" fmla="val 1756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6516720" y="1341360"/>
            <a:ext cx="71280" cy="432000"/>
          </a:xfrm>
          <a:prstGeom prst="downArrow">
            <a:avLst>
              <a:gd name="adj1" fmla="val 50000"/>
              <a:gd name="adj2" fmla="val 1515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– это наука и практика постановки психологического диагноз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Как отрасль психологического знания 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иагностика 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предназначена для измерения, оценки и анализа индивидуально-психологических и психофизиологических особенностей человека, а также для выявления различий между группами людей, объединенных по какому-либо признак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Под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 психодиагностикой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понимается область психологической практики – работа диагноста по выявлению разнообразных качеств, психологических и психофизиологических особенностей, черт личнос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предназначена для обеспечения сбора информации об особенностях человеческой психики, поведения и межличностных отнош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Психодиагностика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– область психологической науки, 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разрабатывающая методы выявления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и изучения индивидуально-психологических особенностей личности человека и групп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0" y="260280"/>
            <a:ext cx="7956720" cy="1513080"/>
          </a:xfrm>
          <a:custGeom>
            <a:avLst/>
            <a:gdLst>
              <a:gd name="textAreaLeft" fmla="*/ 178200 w 7956720"/>
              <a:gd name="textAreaRight" fmla="*/ 7778520 w 7956720"/>
              <a:gd name="textAreaTop" fmla="*/ 178200 h 1513080"/>
              <a:gd name="textAreaBottom" fmla="*/ 1334880 h 1513080"/>
            </a:gdLst>
            <a:ahLst/>
            <a:rect l="textAreaLeft" t="textAreaTop" r="textAreaRight" b="textAreaBottom"/>
            <a:pathLst>
              <a:path w="1135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9964" y="21600"/>
                </a:lnTo>
                <a:arcTo wR="3600" hR="3600" stAng="10800000" swAng="5400000"/>
                <a:lnTo>
                  <a:pt x="113564" y="3600"/>
                </a:lnTo>
                <a:arcTo wR="3600" hR="3600" stAng="5400000" swAng="5400000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Диагноз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от греч. Diagnosis) — распозна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Диагностика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от греч. Diagnostikos) — способность распознавать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щий смыс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онятия «диагноз» сводится к следующем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всестороннее изучение организма человека (или соответственно машин и других технических механизмов и устройств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определение отклонений, дефектов в жизнедеятельности человека (или работе машин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редсказание возможных отклонений в развитии организма (режиме работы машин и механизмов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разработка методов и средств обнаружения и локализации деф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Понятие диагностической метод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сиходиагностические методики 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— это специфические психологические средства, предназначенные для измерения и оценки индивидуально-психологических особенностей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сиходиагностические методики – 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это конкретное воплощение психодиагностического метода, выработанный способ организации взаимодействия субъекта и объекта исследования на основе конкретного материала и конкретной процед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Основой психодиагностического метода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является его измерительно-испытательная направленность, за счет которой достигается количественная и качественная квалификация изучаемого я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Требования к диагностическим инструмента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Первое требование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стандартизация измерения, в основе которого лежит понятие нор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Норма теста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это средний уровень развития большой совокупности людей, похожих на данного испытуемого по ряду социально-демографических характерист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Второе требование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это требования к надежности и валидности инструмента измерения, а также жесткая регламентация процедуры обследования (точное соблюдение инструкции, строго определенные способы представления стимульного материала, невмешательство исследователя в деятельность обследуемого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Психодиагностический метод </a:t>
            </a: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конкретизируется в трех основных диагностических подходах</a:t>
            </a: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Объективный»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диагностика осуществляется на основе успешности (результативности) и способа (особенностей) выполнения деятель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Субъективный»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диагностика осуществляется на основе сведений, сообщаемых о себе, самоописания особенностей личности, поведения в тех или иных ситуаци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Проективный</a:t>
            </a:r>
            <a:r>
              <a:rPr b="1" i="1" lang="ru-RU" sz="2100" spc="-1" strike="noStrike">
                <a:solidFill>
                  <a:srgbClr val="000099"/>
                </a:solidFill>
                <a:latin typeface="Arial"/>
              </a:rPr>
              <a:t>»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диагностика на основе анализа особенностей взаимодействия с внешне нейтральным, как бы безличным материалом, становящимся в силу его неопределенности (слабоструктурированности) объектом прое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Номотетический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типизация на основе установленных закономерност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Идеографический подход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– учитывается своеобразие и уникальность личнос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Organization Chart 5"/>
          <p:cNvGrpSpPr/>
          <p:nvPr/>
        </p:nvGrpSpPr>
        <p:grpSpPr>
          <a:xfrm>
            <a:off x="179280" y="260280"/>
            <a:ext cx="8713080" cy="5689080"/>
            <a:chOff x="179280" y="260280"/>
            <a:chExt cx="8713080" cy="5689080"/>
          </a:xfrm>
        </p:grpSpPr>
        <p:cxnSp>
          <p:nvCxnSpPr>
            <p:cNvPr id="269" name="_s10244"/>
            <p:cNvCxnSpPr>
              <a:stCxn id="270" idx="0"/>
              <a:endCxn id="271" idx="2"/>
            </p:cNvCxnSpPr>
            <p:nvPr/>
          </p:nvCxnSpPr>
          <p:spPr>
            <a:xfrm flipV="1" rot="16200000">
              <a:off x="5877720" y="3951360"/>
              <a:ext cx="407160" cy="1967760"/>
            </a:xfrm>
            <a:prstGeom prst="bentConnector3">
              <a:avLst>
                <a:gd name="adj1" fmla="val 27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_s10245"/>
            <p:cNvCxnSpPr>
              <a:stCxn id="273" idx="0"/>
              <a:endCxn id="271" idx="2"/>
            </p:cNvCxnSpPr>
            <p:nvPr/>
          </p:nvCxnSpPr>
          <p:spPr>
            <a:xfrm flipV="1" rot="16200000">
              <a:off x="4895280" y="4933800"/>
              <a:ext cx="407160" cy="2880"/>
            </a:xfrm>
            <a:prstGeom prst="bentConnector3">
              <a:avLst>
                <a:gd name="adj1" fmla="val 27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_s10246"/>
            <p:cNvCxnSpPr>
              <a:stCxn id="275" idx="0"/>
              <a:endCxn id="271" idx="2"/>
            </p:cNvCxnSpPr>
            <p:nvPr/>
          </p:nvCxnSpPr>
          <p:spPr>
            <a:xfrm flipH="1" flipV="1" rot="5400000">
              <a:off x="3911400" y="3952440"/>
              <a:ext cx="407160" cy="1965960"/>
            </a:xfrm>
            <a:prstGeom prst="bentConnector3">
              <a:avLst>
                <a:gd name="adj1" fmla="val 27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47"/>
            <p:cNvCxnSpPr>
              <a:stCxn id="277" idx="0"/>
              <a:endCxn id="278" idx="2"/>
            </p:cNvCxnSpPr>
            <p:nvPr/>
          </p:nvCxnSpPr>
          <p:spPr>
            <a:xfrm flipV="1" rot="16200000">
              <a:off x="6369840" y="1019520"/>
              <a:ext cx="407160" cy="295236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248"/>
            <p:cNvCxnSpPr>
              <a:stCxn id="280" idx="0"/>
              <a:endCxn id="278" idx="2"/>
            </p:cNvCxnSpPr>
            <p:nvPr/>
          </p:nvCxnSpPr>
          <p:spPr>
            <a:xfrm flipV="1" rot="16200000">
              <a:off x="5387040" y="2002320"/>
              <a:ext cx="407160" cy="98640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249"/>
            <p:cNvCxnSpPr>
              <a:stCxn id="282" idx="0"/>
              <a:endCxn id="278" idx="2"/>
            </p:cNvCxnSpPr>
            <p:nvPr/>
          </p:nvCxnSpPr>
          <p:spPr>
            <a:xfrm flipH="1" flipV="1" rot="5400000">
              <a:off x="4402800" y="2003760"/>
              <a:ext cx="407160" cy="98388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0250"/>
            <p:cNvCxnSpPr>
              <a:stCxn id="284" idx="0"/>
              <a:endCxn id="278" idx="2"/>
            </p:cNvCxnSpPr>
            <p:nvPr/>
          </p:nvCxnSpPr>
          <p:spPr>
            <a:xfrm flipH="1" flipV="1" rot="5400000">
              <a:off x="3418560" y="1019880"/>
              <a:ext cx="407160" cy="2951640"/>
            </a:xfrm>
            <a:prstGeom prst="bentConnector3">
              <a:avLst>
                <a:gd name="adj1" fmla="val 280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0251"/>
            <p:cNvCxnSpPr>
              <a:stCxn id="271" idx="1"/>
              <a:endCxn id="286" idx="2"/>
            </p:cNvCxnSpPr>
            <p:nvPr/>
          </p:nvCxnSpPr>
          <p:spPr>
            <a:xfrm rot="10800000">
              <a:off x="1021680" y="1072440"/>
              <a:ext cx="3232800" cy="325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10252"/>
            <p:cNvCxnSpPr>
              <a:stCxn id="278" idx="1"/>
              <a:endCxn id="286" idx="2"/>
            </p:cNvCxnSpPr>
            <p:nvPr/>
          </p:nvCxnSpPr>
          <p:spPr>
            <a:xfrm rot="10800000">
              <a:off x="1021680" y="1072440"/>
              <a:ext cx="3232800" cy="81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6" name="_s10253"/>
            <p:cNvSpPr/>
            <p:nvPr/>
          </p:nvSpPr>
          <p:spPr>
            <a:xfrm>
              <a:off x="179280" y="26028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Типы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иагностически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етоди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254"/>
            <p:cNvSpPr/>
            <p:nvPr/>
          </p:nvSpPr>
          <p:spPr>
            <a:xfrm>
              <a:off x="4254480" y="147996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рмализов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255"/>
            <p:cNvSpPr/>
            <p:nvPr/>
          </p:nvSpPr>
          <p:spPr>
            <a:xfrm>
              <a:off x="4254480" y="391932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лоформализов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256"/>
            <p:cNvSpPr/>
            <p:nvPr/>
          </p:nvSpPr>
          <p:spPr>
            <a:xfrm>
              <a:off x="1303560" y="2699640"/>
              <a:ext cx="1686240" cy="81288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с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0257"/>
            <p:cNvSpPr/>
            <p:nvPr/>
          </p:nvSpPr>
          <p:spPr>
            <a:xfrm>
              <a:off x="3270960" y="2699640"/>
              <a:ext cx="1686240" cy="81036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ос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258"/>
            <p:cNvSpPr/>
            <p:nvPr/>
          </p:nvSpPr>
          <p:spPr>
            <a:xfrm>
              <a:off x="5238720" y="2699640"/>
              <a:ext cx="1686240" cy="81036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ивн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259"/>
            <p:cNvSpPr/>
            <p:nvPr/>
          </p:nvSpPr>
          <p:spPr>
            <a:xfrm>
              <a:off x="7206120" y="2699640"/>
              <a:ext cx="1686240" cy="810360"/>
            </a:xfrm>
            <a:prstGeom prst="roundRect">
              <a:avLst>
                <a:gd name="adj" fmla="val 16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сихофизиологи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тод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260"/>
            <p:cNvSpPr/>
            <p:nvPr/>
          </p:nvSpPr>
          <p:spPr>
            <a:xfrm>
              <a:off x="2291040" y="5139000"/>
              <a:ext cx="1684440" cy="81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261"/>
            <p:cNvSpPr/>
            <p:nvPr/>
          </p:nvSpPr>
          <p:spPr>
            <a:xfrm>
              <a:off x="4257000" y="5139000"/>
              <a:ext cx="1684080" cy="81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се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0262"/>
            <p:cNvSpPr/>
            <p:nvPr/>
          </p:nvSpPr>
          <p:spPr>
            <a:xfrm>
              <a:off x="6222240" y="5139000"/>
              <a:ext cx="1684440" cy="81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нализ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Характерные черты формализованных метод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Регламента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Объективизация процедуры</a:t>
            </a: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 исследования (точное соблюдение инструкций, строго определенные способы предъявления стимульного материала, невмешательство исследователя в деятельность испытуемого и др.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Стандартизация </a:t>
            </a: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(установление единообразия проведения обработки и представления результатов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Надежнос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Валидность</a:t>
            </a:r>
            <a:r>
              <a:rPr b="0" lang="ru-RU" sz="25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Характерные черты малоформализованных методик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чень трудоемки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(например, наблюдение за обследуемым осуществляется иногда в течение нескольких месяцев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снованы на профессиональном опыте.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Требуют психологической п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дготовленности самого диагноста.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Тесты </a:t>
            </a: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(англ. test — испытание, проверка, проба) — это стандартизированные и обычно краткие и ограниченные во времени испытания, предназначенные для установления количественных и качественных индивидуально-психологических различий между людьми.</a:t>
            </a:r>
            <a:br>
              <a:rPr sz="1200"/>
            </a:br>
            <a:r>
              <a:rPr b="1" lang="ru-RU" sz="1200" spc="-1" strike="noStrike">
                <a:solidFill>
                  <a:srgbClr val="990501"/>
                </a:solidFill>
                <a:latin typeface="Arial"/>
              </a:rPr>
              <a:t>Отличительная особенность тестов - состоят из заданий, на которые нужно дать правильный ответ.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197000"/>
            <a:ext cx="3771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По форме тесты быть</a:t>
            </a:r>
            <a:r>
              <a:rPr b="0" lang="ru-RU" sz="13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Индивидуаль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Группов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Уст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исьм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Бланковые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редмет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Аппаратур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Компьютер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ербальные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Невербальны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6120" y="1341360"/>
            <a:ext cx="3771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По содержанию делятся 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интелл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способнос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лич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достиж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Тесты  креатив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Опросники </a:t>
            </a: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- группа психодиагностических методик, где задания представлены в виде вопросов и утверждений и предназначены для получения данных со слов обследуемого.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 В опросниках не может быть правильных и неправильных ответов. 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Они отражают отношение человека к тем или иным высказываниям, меру его согласия или несогласия</a:t>
            </a: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059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Опросники  личност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- рассматривают как стандартизированные самоотче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 форм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бывают групповыми и индивидуальными, письменными, бланковыми или компьютерными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о содержанию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могут бы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черт лич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типологическ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мотив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интерес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ценност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ники установ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1052640"/>
            <a:ext cx="432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99"/>
                </a:solidFill>
                <a:uFillTx/>
                <a:latin typeface="Arial"/>
              </a:rPr>
              <a:t>Опросники-анкеты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служат для получения информации о человеке, не имеющей непосредственного отношения к его психологическим особенностям (например, для получения данных об истории его жизни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редполагают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жестко фиксированный порядок, содержание и форму вопросов, четкое указание формы ответов.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осы классифицируются на заочный и прям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Различают следующие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иды анкет по конструкции задаваемых вопросов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 открытыми вопросам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(отвечающий дает свой собственный отве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 закрытыми вопросам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(отвечающий может выбрать ответ из числа приведенных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 полузакрытыми вопросами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(отвечающий может выбрать ответ из числа приведенных или дать свой собственны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7280" y="26028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Проективная техника</a:t>
            </a: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 —группа методик, предназначенных для диагностики личности, для которых характерен в большей мере глобальный подход к оценке личности, а не выявление отдельных ее черт. 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Наиболее существенным признаком проективных методик является использование в них неопределенных стимулов, которые испытуемый должен сам дополнять, интерпретировать, развивать и т. д.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Различают следующие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группы проективных методик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структурирования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формирование стимулов, придание им смыс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конструирования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создание из деталей осмысленного цел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интерпретации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истолкование какого-либо события, ситу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дополнения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завершение предложения, рассказа, истор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катарсиса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осуществление игровой деятельности в особо организованных условия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изучения экспрессии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рисование на свободную или заданную тем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Методики изучения импрессии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предпочтение одних стимулов (как наиболее желательных) друг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Психофизиологические методики</a:t>
            </a: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 - диагностируют природные особенности человека, обусловленные основными свойствами его нервной системы.</a:t>
            </a:r>
            <a:br>
              <a:rPr sz="1400"/>
            </a:br>
            <a:r>
              <a:rPr b="0" lang="ru-RU" sz="1400" spc="-1" strike="noStrike">
                <a:solidFill>
                  <a:srgbClr val="330066"/>
                </a:solidFill>
                <a:latin typeface="Arial"/>
              </a:rPr>
              <a:t>Индивидуальные различия, обусловленные свойствами нервной системы, не предопределяют содержания психического. Они находят свое проявление в формально-динамических особенностях психики и поведения человека (в быстроте, темпе, выносливости, работоспособности, помехоустойчивости и др.).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По своей форм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Аппаратурные -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используются электроэнцефалографы, и др.специальная аппарату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Методики типа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«карандаш и бумага»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(бланковые методики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Аппаратурные и бланковые методики носят индивидуальный характе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 теоретическая дисциплина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990501"/>
                </a:solidFill>
                <a:uFillTx/>
                <a:latin typeface="Arial"/>
              </a:rPr>
              <a:t>психодиагностика</a:t>
            </a:r>
            <a:r>
              <a:rPr b="0" lang="ru-RU" sz="3000" spc="-1" strike="noStrike">
                <a:solidFill>
                  <a:srgbClr val="990501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ссматривает закономерности вынесения валидных и надежных диагностических суждений, правила «диагностических умозаключений», с помощью которых осуществляется переход от признаков и индикаторов определенного психического состояния, структуры, процесса к констатации наличия и выраженности этих психологических и педагогических «переменных»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66"/>
                </a:solidFill>
                <a:latin typeface="Arial"/>
              </a:rPr>
              <a:t>Наблюдение</a:t>
            </a:r>
            <a:r>
              <a:rPr b="0" lang="ru-RU" sz="1900" spc="-1" strike="noStrike">
                <a:solidFill>
                  <a:srgbClr val="330066"/>
                </a:solidFill>
                <a:latin typeface="Arial"/>
              </a:rPr>
              <a:t> - целенаправленное, организованное восприятие и регистрация поведения объекта. </a:t>
            </a:r>
            <a:br>
              <a:rPr sz="1900"/>
            </a:b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545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иды наблюдения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Несистематическо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наблюдение проводится в ходе полевого исследов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истематическо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наблюдение проводится по определенному план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«Сплошное»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- исследователь (или группа исследователей) фиксирует все особенности поведения, доступные для максимально подробного наблюд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ыборочное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- исследователь обращает внимание лишь на определенные параметры поведения или типы поведенческих ак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Непосредственно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Опосредованно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 - с использованием наблюдательных приборов и средств фиксации результа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нешнее (открытое)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– наблюдаемые знают, что за ними ведется наблюде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ключенное наблюдение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 предполагает, что наблюдатель сам является членом группы, поведение которой он исследует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16360" y="836280"/>
            <a:ext cx="4206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роцедура исследования методом наблюдения </a:t>
            </a: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состоит из этап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Определяются  предмет наблюдения (поведение), объект (отдельные индивиды или группа), ситуа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ыбирается  способ наблюдения и регистрации данных.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Строится  план наблюдения (ситуации — объект — время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Выбирается  метод обработки результа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Проводится  обработка и интерпретация полученной информа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8560" y="260280"/>
            <a:ext cx="87850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Беседа</a:t>
            </a:r>
            <a:r>
              <a:rPr b="0" lang="ru-RU" sz="2100" spc="-1" strike="noStrike">
                <a:solidFill>
                  <a:srgbClr val="330066"/>
                </a:solidFill>
                <a:latin typeface="Arial"/>
              </a:rPr>
              <a:t> — это метод сбора первичных данных на основе вербальной коммуникации.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Беседа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имеет различия по форме и характеру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Интервью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— это проводимая по определенному плану беседа, предполагающая прямой контакт интервьюера с респондентом (опрашиваемым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По форм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свободно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(беседа без строгой детализации вопросов, но по общей программе: стройная стратегия в общих чертах, а тактика свободная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стандартизованно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(с детальной разработкой всей процедуры, включая общий план беседы, последовательность вопросов, варианты возможных ответов: стойкая стратегия и тактика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частично стандартизованное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(стойкая стратегия, а тактика более свободная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В зависимости от целевого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назначения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разделяю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иагностическое интервью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— это метод получения информации общего содержания, который направлен на «зондирование» различных аспектов поведения, свойств личности, характера, а также жизни вообще: выяснение интересов и склонностей, положения в семье, отношения к родителям, братьям и сестрам и т. д. Оно может быть управляемым и неуправляемым (исповедальным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Клиническое интервью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— это метод терапевтической беседы, помогающей человеку осознать свои внутренние затруднения, конфликты, скрытые мотивы повед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85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Анализ продуктов деятельности</a:t>
            </a:r>
            <a:r>
              <a:rPr b="0" lang="ru-RU" sz="1700" spc="-1" strike="noStrike">
                <a:solidFill>
                  <a:srgbClr val="330066"/>
                </a:solidFill>
                <a:latin typeface="Arial"/>
              </a:rPr>
              <a:t> (контент-анализ) — это количественно-качественный анализ документальных и материальных источников, позволяющий изучать продукты человеческой деятельности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«Документальный источник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Письм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Автобиограф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Дневн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Фотограф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Записи на кино- и видеопленк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Творческие результаты в разных видах искусства, материалы средств массовой информации (газеты, журналы и т.п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Процедура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- перевод качественной информации на язык сче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Выделяют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два типа единиц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смысловые, или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 качественные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единицы анализа и единицы счета, или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количественны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8280" y="1891800"/>
            <a:ext cx="7991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0066"/>
                </a:solidFill>
                <a:latin typeface="Arial"/>
              </a:rPr>
              <a:t>Спасибо за внимание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rganization Chart 5"/>
          <p:cNvGrpSpPr/>
          <p:nvPr/>
        </p:nvGrpSpPr>
        <p:grpSpPr>
          <a:xfrm>
            <a:off x="250920" y="189000"/>
            <a:ext cx="8568360" cy="6046560"/>
            <a:chOff x="250920" y="189000"/>
            <a:chExt cx="8568360" cy="6046560"/>
          </a:xfrm>
        </p:grpSpPr>
        <p:cxnSp>
          <p:nvCxnSpPr>
            <p:cNvPr id="155" name="_s1028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694480" y="1447920"/>
              <a:ext cx="1209960" cy="352764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29"/>
            <p:cNvCxnSpPr>
              <a:stCxn id="159" idx="0"/>
              <a:endCxn id="157" idx="2"/>
            </p:cNvCxnSpPr>
            <p:nvPr/>
          </p:nvCxnSpPr>
          <p:spPr>
            <a:xfrm flipV="1" rot="16200000">
              <a:off x="4814280" y="2328120"/>
              <a:ext cx="1209960" cy="176688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30"/>
            <p:cNvCxnSpPr>
              <a:stCxn id="161" idx="0"/>
              <a:endCxn id="157" idx="2"/>
            </p:cNvCxnSpPr>
            <p:nvPr/>
          </p:nvCxnSpPr>
          <p:spPr>
            <a:xfrm flipV="1" rot="16200000">
              <a:off x="3931920" y="3210480"/>
              <a:ext cx="1209960" cy="216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31"/>
            <p:cNvCxnSpPr>
              <a:stCxn id="163" idx="0"/>
              <a:endCxn id="157" idx="2"/>
            </p:cNvCxnSpPr>
            <p:nvPr/>
          </p:nvCxnSpPr>
          <p:spPr>
            <a:xfrm flipH="1" flipV="1" rot="5400000">
              <a:off x="3048840" y="2329200"/>
              <a:ext cx="1209960" cy="176508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32"/>
            <p:cNvCxnSpPr>
              <a:stCxn id="165" idx="0"/>
              <a:endCxn id="157" idx="2"/>
            </p:cNvCxnSpPr>
            <p:nvPr/>
          </p:nvCxnSpPr>
          <p:spPr>
            <a:xfrm flipH="1" flipV="1" rot="5400000">
              <a:off x="2167560" y="1447560"/>
              <a:ext cx="1209960" cy="352836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1033"/>
            <p:cNvSpPr/>
            <p:nvPr/>
          </p:nvSpPr>
          <p:spPr>
            <a:xfrm>
              <a:off x="3777840" y="18900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Теоретическ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основы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психодиагности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педагогической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диагности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4"/>
            <p:cNvSpPr/>
            <p:nvPr/>
          </p:nvSpPr>
          <p:spPr>
            <a:xfrm>
              <a:off x="25092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бщая 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5"/>
            <p:cNvSpPr/>
            <p:nvPr/>
          </p:nvSpPr>
          <p:spPr>
            <a:xfrm>
              <a:off x="201528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фференциаль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6"/>
            <p:cNvSpPr/>
            <p:nvPr/>
          </p:nvSpPr>
          <p:spPr>
            <a:xfrm>
              <a:off x="378000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Возраст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7"/>
            <p:cNvSpPr/>
            <p:nvPr/>
          </p:nvSpPr>
          <p:spPr>
            <a:xfrm>
              <a:off x="5544720" y="3817080"/>
              <a:ext cx="1512360" cy="2418480"/>
            </a:xfrm>
            <a:custGeom>
              <a:avLst/>
              <a:gdLst>
                <a:gd name="textAreaLeft" fmla="*/ 73800 w 1512360"/>
                <a:gd name="textAreaRight" fmla="*/ 1438560 w 1512360"/>
                <a:gd name="textAreaTop" fmla="*/ 73800 h 2418480"/>
                <a:gd name="textAreaBottom" fmla="*/ 2344680 h 2418480"/>
              </a:gdLst>
              <a:ahLst/>
              <a:rect l="textAreaLeft" t="textAreaTop" r="textAreaRight" b="textAreaBottom"/>
              <a:pathLst>
                <a:path w="21600" h="34538">
                  <a:moveTo>
                    <a:pt x="3600" y="0"/>
                  </a:moveTo>
                  <a:arcTo wR="3600" hR="3600" stAng="16200000" swAng="-5400000"/>
                  <a:lnTo>
                    <a:pt x="0" y="30938"/>
                  </a:lnTo>
                  <a:arcTo wR="3600" hR="3600" stAng="10800000" swAng="-5400000"/>
                  <a:lnTo>
                    <a:pt x="18000" y="34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Медицинск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8"/>
            <p:cNvSpPr/>
            <p:nvPr/>
          </p:nvSpPr>
          <p:spPr>
            <a:xfrm>
              <a:off x="7309080" y="3817080"/>
              <a:ext cx="1510200" cy="2418480"/>
            </a:xfrm>
            <a:custGeom>
              <a:avLst/>
              <a:gdLst>
                <a:gd name="textAreaLeft" fmla="*/ 73440 w 1510200"/>
                <a:gd name="textAreaRight" fmla="*/ 1436760 w 1510200"/>
                <a:gd name="textAreaTop" fmla="*/ 73440 h 2418480"/>
                <a:gd name="textAreaBottom" fmla="*/ 2345040 h 2418480"/>
              </a:gdLst>
              <a:ahLst/>
              <a:rect l="textAreaLeft" t="textAreaTop" r="textAreaRight" b="textAreaBottom"/>
              <a:pathLst>
                <a:path w="21600" h="34588">
                  <a:moveTo>
                    <a:pt x="3600" y="0"/>
                  </a:moveTo>
                  <a:arcTo wR="3600" hR="3600" stAng="16200000" swAng="-5400000"/>
                  <a:lnTo>
                    <a:pt x="0" y="30988"/>
                  </a:lnTo>
                  <a:arcTo wR="3600" hR="3600" stAng="10800000" swAng="-5400000"/>
                  <a:lnTo>
                    <a:pt x="18000" y="345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Т.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66"/>
                </a:solidFill>
                <a:latin typeface="Arial"/>
              </a:rPr>
              <a:t>Методические средства психодиагностики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7" name="Diagram 5"/>
          <p:cNvGrpSpPr/>
          <p:nvPr/>
        </p:nvGrpSpPr>
        <p:grpSpPr>
          <a:xfrm>
            <a:off x="1955520" y="1689480"/>
            <a:ext cx="5234760" cy="3855960"/>
            <a:chOff x="1955520" y="1689480"/>
            <a:chExt cx="5234760" cy="3855960"/>
          </a:xfrm>
        </p:grpSpPr>
        <p:sp>
          <p:nvSpPr>
            <p:cNvPr id="168" name="_s2052"/>
            <p:cNvSpPr/>
            <p:nvPr/>
          </p:nvSpPr>
          <p:spPr>
            <a:xfrm>
              <a:off x="2801880" y="1844640"/>
              <a:ext cx="3539160" cy="2406960"/>
            </a:xfrm>
            <a:custGeom>
              <a:avLst/>
              <a:gdLst>
                <a:gd name="textAreaLeft" fmla="*/ 0 w 3539160"/>
                <a:gd name="textAreaRight" fmla="*/ 3539520 w 3539160"/>
                <a:gd name="textAreaTop" fmla="*/ 0 h 2406960"/>
                <a:gd name="textAreaBottom" fmla="*/ 2407320 h 24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53"/>
            <p:cNvSpPr/>
            <p:nvPr/>
          </p:nvSpPr>
          <p:spPr>
            <a:xfrm rot="7200000">
              <a:off x="3852720" y="1846800"/>
              <a:ext cx="2406600" cy="353916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3539160"/>
                <a:gd name="textAreaBottom" fmla="*/ 3539520 h 353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054"/>
            <p:cNvSpPr/>
            <p:nvPr/>
          </p:nvSpPr>
          <p:spPr>
            <a:xfrm rot="14400000">
              <a:off x="2886480" y="1848240"/>
              <a:ext cx="2406600" cy="35398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3539880"/>
                <a:gd name="textAreaBottom" fmla="*/ 3540240 h 35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55"/>
            <p:cNvSpPr/>
            <p:nvPr/>
          </p:nvSpPr>
          <p:spPr>
            <a:xfrm>
              <a:off x="5541840" y="2286360"/>
              <a:ext cx="1420560" cy="96588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  <a:effectLst>
              <a:outerShdw dist="53966" dir="18900000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нкретные прием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зуч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дивидуально-психологически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собенност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6"/>
            <p:cNvSpPr/>
            <p:nvPr/>
          </p:nvSpPr>
          <p:spPr>
            <a:xfrm>
              <a:off x="3862440" y="4263120"/>
              <a:ext cx="1420560" cy="96588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  <a:effectLst>
              <a:outerShdw dist="53966" dir="18900000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особ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работ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2184120" y="2286360"/>
              <a:ext cx="1420560" cy="965880"/>
            </a:xfrm>
            <a:prstGeom prst="rect">
              <a:avLst/>
            </a:prstGeom>
            <a:solidFill>
              <a:srgbClr val="d8d8ec"/>
            </a:solidFill>
            <a:ln w="0">
              <a:noFill/>
            </a:ln>
            <a:effectLst>
              <a:outerShdw dist="53966" dir="18900000" blurRad="0" rotWithShape="0">
                <a:srgbClr val="66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пособ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терпретаци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6093000"/>
            <a:ext cx="914400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Направления работы определяются запросами психологической практи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rganization Chart 5"/>
          <p:cNvGrpSpPr/>
          <p:nvPr/>
        </p:nvGrpSpPr>
        <p:grpSpPr>
          <a:xfrm>
            <a:off x="0" y="260280"/>
            <a:ext cx="8892000" cy="6597360"/>
            <a:chOff x="0" y="260280"/>
            <a:chExt cx="8892000" cy="6597360"/>
          </a:xfrm>
        </p:grpSpPr>
        <p:cxnSp>
          <p:nvCxnSpPr>
            <p:cNvPr id="176" name="_s3076"/>
            <p:cNvCxnSpPr>
              <a:stCxn id="177" idx="1"/>
              <a:endCxn id="178" idx="2"/>
            </p:cNvCxnSpPr>
            <p:nvPr/>
          </p:nvCxnSpPr>
          <p:spPr>
            <a:xfrm rot="10800000">
              <a:off x="2666880" y="1035720"/>
              <a:ext cx="889920" cy="543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3077"/>
            <p:cNvCxnSpPr>
              <a:stCxn id="180" idx="1"/>
              <a:endCxn id="178" idx="2"/>
            </p:cNvCxnSpPr>
            <p:nvPr/>
          </p:nvCxnSpPr>
          <p:spPr>
            <a:xfrm rot="10800000">
              <a:off x="2666880" y="1035720"/>
              <a:ext cx="889920" cy="427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8"/>
            <p:cNvCxnSpPr>
              <a:stCxn id="182" idx="1"/>
              <a:endCxn id="178" idx="2"/>
            </p:cNvCxnSpPr>
            <p:nvPr/>
          </p:nvCxnSpPr>
          <p:spPr>
            <a:xfrm rot="10800000">
              <a:off x="2666880" y="1035720"/>
              <a:ext cx="889920" cy="310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9"/>
            <p:cNvCxnSpPr>
              <a:stCxn id="184" idx="1"/>
              <a:endCxn id="178" idx="2"/>
            </p:cNvCxnSpPr>
            <p:nvPr/>
          </p:nvCxnSpPr>
          <p:spPr>
            <a:xfrm rot="10800000">
              <a:off x="2666880" y="1035720"/>
              <a:ext cx="889920" cy="194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3080"/>
            <p:cNvCxnSpPr>
              <a:stCxn id="186" idx="1"/>
              <a:endCxn id="178" idx="2"/>
            </p:cNvCxnSpPr>
            <p:nvPr/>
          </p:nvCxnSpPr>
          <p:spPr>
            <a:xfrm rot="10800000">
              <a:off x="2666880" y="1035720"/>
              <a:ext cx="889920" cy="77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3081"/>
            <p:cNvSpPr/>
            <p:nvPr/>
          </p:nvSpPr>
          <p:spPr>
            <a:xfrm>
              <a:off x="0" y="26028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 компетенцию диагноста вход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82"/>
            <p:cNvSpPr/>
            <p:nvPr/>
          </p:nvSpPr>
          <p:spPr>
            <a:xfrm>
              <a:off x="3556800" y="142452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онструирование и апроба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иагностических метод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3"/>
            <p:cNvSpPr/>
            <p:nvPr/>
          </p:nvSpPr>
          <p:spPr>
            <a:xfrm>
              <a:off x="3556800" y="258876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азработка требован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оторым должны удовлетворя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диагностические инструмент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4"/>
            <p:cNvSpPr/>
            <p:nvPr/>
          </p:nvSpPr>
          <p:spPr>
            <a:xfrm>
              <a:off x="3556800" y="375300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ыработка правил проведения обследования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3085"/>
            <p:cNvSpPr/>
            <p:nvPr/>
          </p:nvSpPr>
          <p:spPr>
            <a:xfrm>
              <a:off x="3556800" y="491724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ыработка способов обработ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интерпретации результа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086"/>
            <p:cNvSpPr/>
            <p:nvPr/>
          </p:nvSpPr>
          <p:spPr>
            <a:xfrm>
              <a:off x="3556800" y="6081480"/>
              <a:ext cx="5335200" cy="7761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суждение возможност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 ограничений диагностических мет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8" name="Organization Chart 5"/>
          <p:cNvGrpSpPr/>
          <p:nvPr/>
        </p:nvGrpSpPr>
        <p:grpSpPr>
          <a:xfrm>
            <a:off x="826920" y="476280"/>
            <a:ext cx="7695360" cy="5688360"/>
            <a:chOff x="826920" y="476280"/>
            <a:chExt cx="7695360" cy="5688360"/>
          </a:xfrm>
        </p:grpSpPr>
        <p:cxnSp>
          <p:nvCxnSpPr>
            <p:cNvPr id="189" name="_s4100"/>
            <p:cNvCxnSpPr>
              <a:stCxn id="190" idx="0"/>
              <a:endCxn id="191" idx="2"/>
            </p:cNvCxnSpPr>
            <p:nvPr/>
          </p:nvCxnSpPr>
          <p:spPr>
            <a:xfrm flipV="1">
              <a:off x="6746760" y="4030920"/>
              <a:ext cx="396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4101"/>
            <p:cNvCxnSpPr>
              <a:stCxn id="193" idx="0"/>
              <a:endCxn id="194" idx="2"/>
            </p:cNvCxnSpPr>
            <p:nvPr/>
          </p:nvCxnSpPr>
          <p:spPr>
            <a:xfrm flipV="1">
              <a:off x="2602800" y="4030920"/>
              <a:ext cx="396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2"/>
            <p:cNvCxnSpPr>
              <a:stCxn id="191" idx="0"/>
              <a:endCxn id="196" idx="2"/>
            </p:cNvCxnSpPr>
            <p:nvPr/>
          </p:nvCxnSpPr>
          <p:spPr>
            <a:xfrm flipV="1" rot="16200000">
              <a:off x="5354640" y="1217160"/>
              <a:ext cx="711720" cy="2072520"/>
            </a:xfrm>
            <a:prstGeom prst="bentConnector3">
              <a:avLst>
                <a:gd name="adj1" fmla="val 211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4103"/>
            <p:cNvCxnSpPr>
              <a:stCxn id="194" idx="0"/>
              <a:endCxn id="196" idx="2"/>
            </p:cNvCxnSpPr>
            <p:nvPr/>
          </p:nvCxnSpPr>
          <p:spPr>
            <a:xfrm flipH="1" flipV="1" rot="5400000">
              <a:off x="3282840" y="1217520"/>
              <a:ext cx="711720" cy="2071800"/>
            </a:xfrm>
            <a:prstGeom prst="bentConnector3">
              <a:avLst>
                <a:gd name="adj1" fmla="val 211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4104"/>
            <p:cNvSpPr/>
            <p:nvPr/>
          </p:nvSpPr>
          <p:spPr>
            <a:xfrm>
              <a:off x="2898360" y="47628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диагностика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5"/>
            <p:cNvSpPr/>
            <p:nvPr/>
          </p:nvSpPr>
          <p:spPr>
            <a:xfrm>
              <a:off x="826920" y="260928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оплощает теорет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нят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исципл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конкретных методика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106"/>
            <p:cNvSpPr/>
            <p:nvPr/>
          </p:nvSpPr>
          <p:spPr>
            <a:xfrm>
              <a:off x="4970520" y="260928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ыступает как спосо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верки истин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оретико-психологических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стро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07"/>
            <p:cNvSpPr/>
            <p:nvPr/>
          </p:nvSpPr>
          <p:spPr>
            <a:xfrm>
              <a:off x="826920" y="474264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фера практ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4108"/>
            <p:cNvSpPr/>
            <p:nvPr/>
          </p:nvSpPr>
          <p:spPr>
            <a:xfrm>
              <a:off x="4970520" y="4742640"/>
              <a:ext cx="3551760" cy="142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ук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21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А.А. Бодалев и В.В. Столин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9" name="Diagram 5"/>
          <p:cNvGrpSpPr/>
          <p:nvPr/>
        </p:nvGrpSpPr>
        <p:grpSpPr>
          <a:xfrm>
            <a:off x="979560" y="1119600"/>
            <a:ext cx="7802280" cy="4838040"/>
            <a:chOff x="979560" y="1119600"/>
            <a:chExt cx="7802280" cy="4838040"/>
          </a:xfrm>
        </p:grpSpPr>
        <p:sp>
          <p:nvSpPr>
            <p:cNvPr id="200" name="_s5124"/>
            <p:cNvSpPr/>
            <p:nvPr/>
          </p:nvSpPr>
          <p:spPr>
            <a:xfrm flipH="1" flipV="1">
              <a:off x="2948040" y="3320640"/>
              <a:ext cx="967320" cy="204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125"/>
            <p:cNvSpPr/>
            <p:nvPr/>
          </p:nvSpPr>
          <p:spPr>
            <a:xfrm>
              <a:off x="979560" y="2470320"/>
              <a:ext cx="2025720" cy="1303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Нормативные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требова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к методика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их разработчикам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пользовател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126"/>
            <p:cNvSpPr/>
            <p:nvPr/>
          </p:nvSpPr>
          <p:spPr>
            <a:xfrm flipH="1">
              <a:off x="3684960" y="4251240"/>
              <a:ext cx="599040" cy="52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127"/>
            <p:cNvSpPr/>
            <p:nvPr/>
          </p:nvSpPr>
          <p:spPr>
            <a:xfrm>
              <a:off x="2081160" y="4654440"/>
              <a:ext cx="2025720" cy="1303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Методически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теоретическ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и методические принцип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формулирова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диагностичес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заключ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128"/>
            <p:cNvSpPr/>
            <p:nvPr/>
          </p:nvSpPr>
          <p:spPr>
            <a:xfrm>
              <a:off x="5473440" y="4249440"/>
              <a:ext cx="595800" cy="52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129"/>
            <p:cNvSpPr/>
            <p:nvPr/>
          </p:nvSpPr>
          <p:spPr>
            <a:xfrm>
              <a:off x="5650920" y="4654440"/>
              <a:ext cx="2025720" cy="1303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Дифференциальная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психометрика</a:t>
              </a:r>
              <a:r>
                <a:rPr b="1" lang="ru-RU" sz="13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как методолог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обнаружения различ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130"/>
            <p:cNvSpPr/>
            <p:nvPr/>
          </p:nvSpPr>
          <p:spPr>
            <a:xfrm flipV="1">
              <a:off x="5838480" y="3320280"/>
              <a:ext cx="967320" cy="20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131"/>
            <p:cNvSpPr/>
            <p:nvPr/>
          </p:nvSpPr>
          <p:spPr>
            <a:xfrm>
              <a:off x="6756120" y="2470320"/>
              <a:ext cx="2025720" cy="1303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Методы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и конкретные методи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наиболее универс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объект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психодиагностически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Arial"/>
                </a:rPr>
                <a:t>исслед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132"/>
            <p:cNvSpPr/>
            <p:nvPr/>
          </p:nvSpPr>
          <p:spPr>
            <a:xfrm flipV="1">
              <a:off x="4877280" y="2420280"/>
              <a:ext cx="0" cy="654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133"/>
            <p:cNvSpPr/>
            <p:nvPr/>
          </p:nvSpPr>
          <p:spPr>
            <a:xfrm>
              <a:off x="3865680" y="1119600"/>
              <a:ext cx="2025720" cy="1303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Методологически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теоретические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конкретно-методические</a:t>
              </a:r>
              <a:r>
                <a:rPr b="1" lang="en-US" sz="12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принцип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постро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диагностичес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66"/>
                  </a:solidFill>
                  <a:latin typeface="Arial"/>
                </a:rPr>
                <a:t>инструмен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134"/>
            <p:cNvSpPr/>
            <p:nvPr/>
          </p:nvSpPr>
          <p:spPr>
            <a:xfrm>
              <a:off x="3865680" y="3075480"/>
              <a:ext cx="2025720" cy="1303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0066"/>
                  </a:solidFill>
                  <a:latin typeface="Arial"/>
                </a:rPr>
                <a:t>Предм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0066"/>
                </a:solidFill>
                <a:latin typeface="Arial"/>
              </a:rPr>
              <a:t>К.М. Гуревич и Г.А. Берулава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12" name="Diagram 5"/>
          <p:cNvGrpSpPr/>
          <p:nvPr/>
        </p:nvGrpSpPr>
        <p:grpSpPr>
          <a:xfrm>
            <a:off x="2266200" y="1114920"/>
            <a:ext cx="4610880" cy="5182920"/>
            <a:chOff x="2266200" y="1114920"/>
            <a:chExt cx="4610880" cy="5182920"/>
          </a:xfrm>
        </p:grpSpPr>
        <p:sp>
          <p:nvSpPr>
            <p:cNvPr id="213" name="_s6148"/>
            <p:cNvSpPr/>
            <p:nvPr/>
          </p:nvSpPr>
          <p:spPr>
            <a:xfrm flipH="1">
              <a:off x="3418560" y="3706200"/>
              <a:ext cx="576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6149"/>
            <p:cNvSpPr/>
            <p:nvPr/>
          </p:nvSpPr>
          <p:spPr>
            <a:xfrm>
              <a:off x="2266200" y="3058560"/>
              <a:ext cx="1152360" cy="1295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авила и практик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имен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диагностически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методи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>
              <a:off x="4571640" y="4354560"/>
              <a:ext cx="0" cy="6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995640" y="5002200"/>
              <a:ext cx="1152360" cy="1295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оцедуры провед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диагностических испытан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5148000" y="3706200"/>
              <a:ext cx="576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5724720" y="3058560"/>
              <a:ext cx="1152360" cy="129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равила обработк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и истолкова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0066"/>
                  </a:solidFill>
                  <a:latin typeface="Arial"/>
                </a:rPr>
                <a:t>полученных результа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 flipV="1">
              <a:off x="4571640" y="2410560"/>
              <a:ext cx="0" cy="6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3995640" y="1114920"/>
              <a:ext cx="1152360" cy="1295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Теоретико-операциональ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принцип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конструирова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330066"/>
                  </a:solidFill>
                  <a:latin typeface="Arial"/>
                </a:rPr>
                <a:t>методи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>
              <a:off x="3995640" y="3058560"/>
              <a:ext cx="1152360" cy="1295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330066"/>
                  </a:solidFill>
                  <a:latin typeface="Arial"/>
                </a:rPr>
                <a:t>Предмет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0:25:02Z</dcterms:created>
  <dc:creator>Лена</dc:creator>
  <dc:description/>
  <dc:language>en-US</dc:language>
  <cp:lastModifiedBy>user</cp:lastModifiedBy>
  <dcterms:modified xsi:type="dcterms:W3CDTF">2014-04-11T04:46:42Z</dcterms:modified>
  <cp:revision>16</cp:revision>
  <dc:subject/>
  <dc:title>Психолого-педагогическая диагностика в образовательном процессе </dc:title>
</cp:coreProperties>
</file>